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3C9-7957-4BEA-8B0C-8A113D52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3DD-9404-45B5-A91F-599096AB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8A7-6FAE-418E-9279-7DEC7387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BD8-2D99-428A-A715-50EE111A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CE2-72D7-4546-94D0-A31BA5AA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090-9B37-4CDE-92CB-77811630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EA0-D59B-464C-8C79-EDD1BCDB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E2D-26E5-4FA7-93B0-70A0C84E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0D4-976A-45AA-9692-AED92BC3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C71-34B4-459E-B931-4928D2D1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115-B4FB-48D8-9E05-6043DC0E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131-F870-453E-954F-2DA073D5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4812B-E977-4AC4-9C1B-AC23815AC4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D589B-6C7C-4BA0-8747-5786D9D0C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area-due 3rd June, Tues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 Part of Final Module 4 Poster Assess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You must ge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lored picture of your dream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lored picture of  your dream bed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lored picture of anything else interesting in our outside your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loor plans written in 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ee the model pictures of what you must bring to class on Tuesd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asa de mis sueñ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5714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ed Picture of your Dream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make it bigger than th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spanish house.jpg"/>
          <p:cNvPicPr/>
          <p:nvPr/>
        </p:nvPicPr>
        <p:blipFill>
          <a:blip r:embed="rId1"/>
          <a:stretch/>
        </p:blipFill>
        <p:spPr>
          <a:xfrm>
            <a:off x="838080" y="1143000"/>
            <a:ext cx="7365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Colored picture of anything else interesting in or outside your house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print it bigger than this for poster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guitarSwimmingPool.jpg"/>
          <p:cNvPicPr/>
          <p:nvPr/>
        </p:nvPicPr>
        <p:blipFill>
          <a:blip r:embed="rId1"/>
          <a:stretch/>
        </p:blipFill>
        <p:spPr>
          <a:xfrm>
            <a:off x="2743200" y="1760400"/>
            <a:ext cx="44197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lored picture of the room of your dreams.</a:t>
            </a:r>
            <a:r>
              <a:rPr b="0" i="1" lang="es-ES" sz="3600" spc="-1" strike="noStrike">
                <a:solidFill>
                  <a:srgbClr val="000000"/>
                </a:solidFill>
                <a:latin typeface="Calibri"/>
              </a:rPr>
              <a:t>(print bigger than this for poste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 dream bedrooms"/>
          <p:cNvPicPr/>
          <p:nvPr/>
        </p:nvPicPr>
        <p:blipFill>
          <a:blip r:embed="rId1"/>
          <a:stretch/>
        </p:blipFill>
        <p:spPr>
          <a:xfrm>
            <a:off x="990720" y="1600200"/>
            <a:ext cx="72673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Names of rooms must be written in  Spanish…be sure to include the articles el/la/los/las! “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ormitorio de mis padres”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e p. 64 for correct vocabulary to use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in Floor-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bajo hay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ain floor.gif"/>
          <p:cNvPicPr/>
          <p:nvPr/>
        </p:nvPicPr>
        <p:blipFill>
          <a:blip r:embed="rId1"/>
          <a:stretch/>
        </p:blipFill>
        <p:spPr>
          <a:xfrm>
            <a:off x="1600200" y="1182600"/>
            <a:ext cx="42670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7480"/>
            <a:ext cx="86868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loor plans upstairs…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rriba hay…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Write names of rooms in Spanish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e sure to include article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/la/los/l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upper floor.gif"/>
          <p:cNvPicPr/>
          <p:nvPr/>
        </p:nvPicPr>
        <p:blipFill>
          <a:blip r:embed="rId1"/>
          <a:stretch/>
        </p:blipFill>
        <p:spPr>
          <a:xfrm>
            <a:off x="5259240" y="441360"/>
            <a:ext cx="38847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3:43:52Z</dcterms:created>
  <dc:creator>Mac</dc:creator>
  <dc:description/>
  <dc:language>en-US</dc:language>
  <cp:lastModifiedBy>wanda.snowfrost</cp:lastModifiedBy>
  <dcterms:modified xsi:type="dcterms:W3CDTF">2014-05-27T03:54:02Z</dcterms:modified>
  <cp:revision>24</cp:revision>
  <dc:subject/>
  <dc:title>La Casa de mis sueños</dc:title>
</cp:coreProperties>
</file>